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BD9C-69F1-4679-A0A0-6780342C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18C5-E295-4504-9C1B-225BC1774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96F7-3CC9-424F-98A1-2A6F71454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CB6D-7311-4D33-875A-2F024525A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3A90-C1FE-4643-9F87-9F36C1337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3C36-EC3D-4322-BF2C-CAC01ECB2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gar makers, blacksmiths, shoe makers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ACA-B175-4C31-BE79-7AC72E07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869-CB26-4610-A720-AB3DEB51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F36-3ABA-48D0-9214-EA999EB0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E42-37B3-4A72-97D6-79D56526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71AA-BE05-4183-818D-70BCC4C0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4661-6C74-4994-8D0C-A943E017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5839-31E0-4D8C-9142-F10A8E3F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5A63-6BA3-4DC1-A4B2-C7E1C51C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18CF-3B60-4A46-A2CA-2CCDEBB3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1B2E-8FA3-4BBD-B1B6-5D127D4A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A651-DB96-47CF-844F-D5DAEEB1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488-EADD-4E4D-B2C8-6AC4EF12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10D8-913A-463E-B7F2-9491E895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CF86-0867-4B90-BD67-B4CB5E76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B717-9A6E-4329-B2CB-BE8FE8A3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0331-8BF1-4BAA-B48E-7002A288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015E-467F-46DB-A994-A5EB09D4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9C6-71DE-4094-8CF3-009C71F2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FFF-0A00-44CB-9B15-98E9B59D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618-7E33-4FE3-8CDD-0EFE3309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430-29C9-4F0D-BA0B-CD02621A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28C-9D22-4D25-B84F-B708E9CA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27A-3958-4078-876C-13F6ADAA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790-53C9-4D51-8325-F6CD43CB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402D-7575-423F-A0B2-4E6BF72396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7A92-142D-4777-913F-DE42E54A55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C5khhWvdBY&amp;safety_mode=true&amp;persist_safety_mode=1&amp;safe=active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Rise of Labor Union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reform g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kidd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http://www.historyplace.com/unitedstates/childlabor/biloxi.jpg"/>
          <p:cNvPicPr/>
          <p:nvPr/>
        </p:nvPicPr>
        <p:blipFill>
          <a:blip r:embed="rId1"/>
          <a:stretch/>
        </p:blipFill>
        <p:spPr>
          <a:xfrm>
            <a:off x="0" y="0"/>
            <a:ext cx="9345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eb0d47b5587d62ff6999f34d80a47775"/>
          <p:cNvPicPr/>
          <p:nvPr/>
        </p:nvPicPr>
        <p:blipFill>
          <a:blip r:embed="rId1"/>
          <a:stretch/>
        </p:blipFill>
        <p:spPr>
          <a:xfrm>
            <a:off x="152280" y="1600200"/>
            <a:ext cx="5000760" cy="374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be002181"/>
          <p:cNvPicPr/>
          <p:nvPr/>
        </p:nvPicPr>
        <p:blipFill>
          <a:blip r:embed="rId2"/>
          <a:stretch/>
        </p:blipFill>
        <p:spPr>
          <a:xfrm>
            <a:off x="3429000" y="2333520"/>
            <a:ext cx="5715000" cy="4524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ther Images, by Jacob Rii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6" name="Picture 6" descr="riis-6copy"/>
          <p:cNvPicPr/>
          <p:nvPr/>
        </p:nvPicPr>
        <p:blipFill>
          <a:blip r:embed="rId1"/>
          <a:stretch/>
        </p:blipFill>
        <p:spPr>
          <a:xfrm>
            <a:off x="0" y="0"/>
            <a:ext cx="5896080" cy="472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90"/>
          <p:cNvPicPr/>
          <p:nvPr/>
        </p:nvPicPr>
        <p:blipFill>
          <a:blip r:embed="rId2"/>
          <a:stretch/>
        </p:blipFill>
        <p:spPr>
          <a:xfrm>
            <a:off x="3200400" y="1295280"/>
            <a:ext cx="5715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9" name="Picture 6" descr="90"/>
          <p:cNvPicPr/>
          <p:nvPr/>
        </p:nvPicPr>
        <p:blipFill>
          <a:blip r:embed="rId1"/>
          <a:stretch/>
        </p:blipFill>
        <p:spPr>
          <a:xfrm>
            <a:off x="762120" y="120600"/>
            <a:ext cx="800100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oblems: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condi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v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gerous condi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t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n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ow wages, no job security, no worker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xample: healthcare, paid holidays, paid maternity lea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workers had to live in homes provided by factory own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s were often more expensive to rent than outside ho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s were often in poor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labor, immigrant labor, and employment of women 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er 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Triangle Shirtwaist Factory Fire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out your Video Notes from last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 the video clip about the Triangle Shirtwaist Factory fire and answer the questions in the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2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www.youtube.com/watch?v=WC5khhWvdBY&amp;safety_mode=true&amp;persist_safety_mode=1&amp;safe=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2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rt at 39:29 – the 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y did Labor Unions form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unions formed to fight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tter working conditions, treatment, and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:\Documents and Settings\MMULLOY\Local Settings\Temporary Internet Files\Content.IE5\W4D150YK\MC900048445[1].wmf"/>
          <p:cNvPicPr/>
          <p:nvPr/>
        </p:nvPicPr>
        <p:blipFill>
          <a:blip r:embed="rId1"/>
          <a:stretch/>
        </p:blipFill>
        <p:spPr>
          <a:xfrm>
            <a:off x="3124080" y="3733920"/>
            <a:ext cx="24242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8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pposed unrestricted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lnSpc>
                <a:spcPct val="90000"/>
              </a:lnSpc>
              <a:spcBef>
                <a:spcPts val="77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mmigration =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heap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Refused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women and African-Americans as mem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7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ed free compulsory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lnSpc>
                <a:spcPct val="90000"/>
              </a:lnSpc>
              <a:spcBef>
                <a:spcPts val="77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abor from the workfor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7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81-1900 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,00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trikes in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blamed labor unrest on infiltration o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cialis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arch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2600" y="380880"/>
            <a:ext cx="9131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ter the </a:t>
            </a:r>
            <a:r>
              <a:rPr b="1" lang="en-US" sz="3200" spc="-1" strike="noStrike">
                <a:solidFill>
                  <a:srgbClr val="6e0000"/>
                </a:solidFill>
                <a:latin typeface="Times New Roman"/>
              </a:rPr>
              <a:t>Triangle Shirtwai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y Fire the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ational Ladies Garment Workers Union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as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ugh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amilies of victims of the f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facto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spe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gulate the labor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m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gulations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http://www.uwlax.edu/teachhistory/Education%20Resources/trianglecov1.jpg"/>
          <p:cNvPicPr/>
          <p:nvPr/>
        </p:nvPicPr>
        <p:blipFill>
          <a:blip r:embed="rId1"/>
          <a:stretch/>
        </p:blipFill>
        <p:spPr>
          <a:xfrm>
            <a:off x="685800" y="1405080"/>
            <a:ext cx="5410080" cy="415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trianglememorial.org/images_global/Img_Main_FactoryFire.jpg"/>
          <p:cNvPicPr/>
          <p:nvPr/>
        </p:nvPicPr>
        <p:blipFill>
          <a:blip r:embed="rId2"/>
          <a:stretch/>
        </p:blipFill>
        <p:spPr>
          <a:xfrm>
            <a:off x="3557520" y="274680"/>
            <a:ext cx="4546800" cy="5973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graphics8.nytimes.com/images/2008/01/06/arts/06jhens.large1.jpg"/>
          <p:cNvPicPr/>
          <p:nvPr/>
        </p:nvPicPr>
        <p:blipFill>
          <a:blip r:embed="rId3"/>
          <a:stretch/>
        </p:blipFill>
        <p:spPr>
          <a:xfrm>
            <a:off x="1676520" y="1066680"/>
            <a:ext cx="619128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Knights of Labo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r: Uria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v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errance V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d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y wanted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hour workday, higher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could join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killed and unskilled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they used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ined by 18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ari Montage, “A Nation in Turmoil”  chaps 5-7 (~8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aymarket Square Riot - 1886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ights of Lab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d a strike for 8 hour work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thrown during the protest meeting held by striker an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 called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ac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ights of Labor are identified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rch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ssociated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public turn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, and against labor unions 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0" name="Picture 2" descr="http://photobucket.com/albums/f53/midtowng/KoL.jpg"/>
          <p:cNvPicPr/>
          <p:nvPr/>
        </p:nvPicPr>
        <p:blipFill>
          <a:blip r:embed="rId1"/>
          <a:stretch/>
        </p:blipFill>
        <p:spPr>
          <a:xfrm>
            <a:off x="380880" y="1447920"/>
            <a:ext cx="5791320" cy="5157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img.tfd.com/WEAL/weal_05_img0951.jpg"/>
          <p:cNvPicPr/>
          <p:nvPr/>
        </p:nvPicPr>
        <p:blipFill>
          <a:blip r:embed="rId2"/>
          <a:stretch/>
        </p:blipFill>
        <p:spPr>
          <a:xfrm>
            <a:off x="1981080" y="533520"/>
            <a:ext cx="6786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The American Federation of Labor 1881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r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uel Gom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y wanted: 8 hour work day, improved working conditions, higher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could joined: differ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kil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aft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used: Strikes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yco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ces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ed sh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here factories could only hire union wor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sh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llow-dog contra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mpanies had required workers to sign contracts promi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join a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5" name="Picture 2" descr="http://www.historyteacher.net/USProjects/DBQs2000/Images/AFLSymbol.gif"/>
          <p:cNvPicPr/>
          <p:nvPr/>
        </p:nvPicPr>
        <p:blipFill>
          <a:blip r:embed="rId1"/>
          <a:stretch/>
        </p:blipFill>
        <p:spPr>
          <a:xfrm>
            <a:off x="1682640" y="103320"/>
            <a:ext cx="661356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mestead Strike - 1892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negie Ste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threatened to cut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 picketed and management called in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inkert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ds.  Violence erup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ke last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mont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resident of Carnegie Steel shot in the ne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opinion turn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gain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prote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 returned to work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’s te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merican Railway Union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ugene V. D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hey wanted: 8 hour work day, improved working conditions, higher w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could joi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illed and unskil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n a major striker for better wages but lost another major strike and ended up struggling for me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ullman Strike 1894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llm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ace (Rail) Car Company had cut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ke spread and brought railroad traffic wes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c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kers received help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gene V. De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merican Railway Un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ve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nt troops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reme Cou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tained a court injunction to stop the strik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 Court said the federal government may intercede w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tate comme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ffec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ell Ringer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3 of the “robber barons” (industrialists) we discussed last class and the industry they were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monopoly?  What are some negative effects of monopol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Laissez-faire capital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Exit Ticket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Sherman Anti-Trust Act supposed to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one new invention that made life easier after the Civil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wo reasons why labor unions were mostly unsuccessful in reaching their goals in this time peri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e8"/>
                </a:solidFill>
                <a:latin typeface="Times New Roman"/>
              </a:rPr>
              <a:t>Faces of Lost Youth</a:t>
            </a:r>
            <a:endParaRPr b="0" lang="en-US" sz="6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1c11"/>
                </a:solidFill>
                <a:latin typeface="Arial"/>
              </a:rPr>
              <a:t>The Pictures of Lewis 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910160" y="6491160"/>
            <a:ext cx="54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historyplace.com/unitedstates/childlabor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3" descr="view.jpg"/>
          <p:cNvPicPr/>
          <p:nvPr/>
        </p:nvPicPr>
        <p:blipFill>
          <a:blip r:embed="rId1"/>
          <a:stretch/>
        </p:blipFill>
        <p:spPr>
          <a:xfrm>
            <a:off x="-109440" y="133200"/>
            <a:ext cx="93693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3" descr="full.jpg"/>
          <p:cNvPicPr/>
          <p:nvPr/>
        </p:nvPicPr>
        <p:blipFill>
          <a:blip r:embed="rId1"/>
          <a:stretch/>
        </p:blipFill>
        <p:spPr>
          <a:xfrm>
            <a:off x="44280" y="304920"/>
            <a:ext cx="9099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ontent Placeholder 3" descr="empty.jpg"/>
          <p:cNvPicPr/>
          <p:nvPr/>
        </p:nvPicPr>
        <p:blipFill>
          <a:blip r:embed="rId1"/>
          <a:stretch/>
        </p:blipFill>
        <p:spPr>
          <a:xfrm>
            <a:off x="0" y="152280"/>
            <a:ext cx="9142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child-labor2"/>
          <p:cNvPicPr/>
          <p:nvPr/>
        </p:nvPicPr>
        <p:blipFill>
          <a:blip r:embed="rId1"/>
          <a:stretch/>
        </p:blipFill>
        <p:spPr>
          <a:xfrm>
            <a:off x="304920" y="438120"/>
            <a:ext cx="83818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http://www.historyplace.com/unitedstates/childlabor/dust.jpg"/>
          <p:cNvPicPr/>
          <p:nvPr/>
        </p:nvPicPr>
        <p:blipFill>
          <a:blip r:embed="rId1"/>
          <a:stretch/>
        </p:blipFill>
        <p:spPr>
          <a:xfrm>
            <a:off x="0" y="168120"/>
            <a:ext cx="91584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23:39:29Z</dcterms:created>
  <dc:creator>Michael W. Mulloy</dc:creator>
  <dc:description/>
  <dc:language>en-US</dc:language>
  <cp:lastModifiedBy>Sacerdote, Kevin R.</cp:lastModifiedBy>
  <dcterms:modified xsi:type="dcterms:W3CDTF">2015-09-30T11:11:11Z</dcterms:modified>
  <cp:revision>16</cp:revision>
  <dc:subject/>
  <dc:title>The Rise of Labor Unions and the need for reforms</dc:title>
</cp:coreProperties>
</file>